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F71-F084-402F-B57D-63AEBB60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ADB-4095-4E57-AFF9-49CDA807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0D4-1BAC-473C-BCF5-8361202F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CEC-8BEE-40B9-8D5C-40D6ED33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028F-C690-40D8-8D11-D24BEA00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B119-A454-4A24-93DF-DAD205D6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3B58-2617-461B-94E5-189FFA63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4DDA-2F44-44CF-A4F7-4FB031E5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2BBD-DAD7-437C-B807-0C9272B8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EA00-5170-40E1-AA3A-96621702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9356-08CC-4F63-9A2F-F67952E5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1F6-2053-4DF5-801D-9CB2A7E2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C49F-577C-479E-84FB-46A1ED4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59D2-EE28-4EA4-A269-07AFF085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351B-2B9A-48D2-BCBE-6FAD62B8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DF07-D99C-47BE-96EB-8E78BC78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1E8A-8A87-4758-A78D-E04B61BB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746-1A8B-4D1C-AA10-F5D0AB5E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B11-43B8-4C87-89FF-A374E064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7CA-F8F5-4F97-B3EF-B6565588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765-0210-46E5-8A0C-CDD0E8D3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C09-E537-4838-976F-29148AE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E3D-9163-4B37-A180-36B07EED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3C4-8C1A-45CF-BF7A-20F9F75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33F9-DBA1-4647-853A-872AA443549E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AE05-1B0F-4AF4-82B9-54D203A1BF4F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A Dividing Na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S Histor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Essential Ques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s the Civil War Inevitable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imeline Activit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a group of three you will create a timeline from 1850-61 that will list key events leading up to the Civil W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itle of the timeline will be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ents Leading to the Civil War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imeline will look like this…….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28800" y="533520"/>
            <a:ext cx="5486400" cy="5790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609480"/>
            <a:ext cx="0" cy="58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72680" y="722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40280" y="7221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om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77800" y="18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6400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ey Event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romise of 1850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ansas-Nebraska Ac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cle Tom’s Cabi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leeding Kans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each event complete the following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 the name and date of the ev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vide a short description of the ev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cide whether the event shows a spirit of compromise or confli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a group adjust your timelin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ey Event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red Scott decisio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lection of 186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ohn Brown’s rai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uth Carolina seced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each event complete the following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st the name and date of the ev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vide a short description of the ev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cide whether the event shows a spirit of compromise or confli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a group adjust your timelin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ping Up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 a group answer the following questions on a separate piece of paper (use complete sentences – please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trend did your timeline reveal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y were there fewer events that showed compromise as time passed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cording to this timeline, was the Civil War inevitable?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st as many causes leading to the Civil War as you can think of: (hint = at least 3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7:37:35Z</dcterms:created>
  <dc:creator> </dc:creator>
  <dc:description/>
  <dc:language>en-US</dc:language>
  <cp:lastModifiedBy>School District U46</cp:lastModifiedBy>
  <dcterms:modified xsi:type="dcterms:W3CDTF">2009-09-09T13:31:54Z</dcterms:modified>
  <cp:revision>11</cp:revision>
  <dc:subject/>
  <dc:title>A Dividing Nation</dc:title>
</cp:coreProperties>
</file>